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D123-7557-418F-BBA4-512CCEF2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0CDD-E7FB-4E23-8DCF-F2EF33EC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04D7-0707-450A-9523-45FE5822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D061-CF2E-42A4-B79C-B797F5C2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3B81-2483-436F-9E0E-A5EB69A4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2243-5B93-470C-AF50-4022ED34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0695-863A-4CB1-9C4A-33DD712E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E94E-A264-45F6-935D-F3112431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873C-52A1-4547-867A-898BF43C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49D0-DDB2-4ED9-AA26-7A7571C0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D957-842B-4DF1-A45A-055E47CB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03E8-193A-4FCD-B8C7-3EAF4ABA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3D9A-26D3-44DD-84B7-B4CCFA026F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MCj04241780000[1]"/>
          <p:cNvPicPr/>
          <p:nvPr/>
        </p:nvPicPr>
        <p:blipFill>
          <a:blip r:embed="rId1"/>
          <a:stretch/>
        </p:blipFill>
        <p:spPr>
          <a:xfrm>
            <a:off x="5613480" y="2708280"/>
            <a:ext cx="3363840" cy="383868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324000" y="333360"/>
            <a:ext cx="72723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Специфика профилактики 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компьютерной зависимости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учащихся начальных классов.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MCj04241780000[1]"/>
          <p:cNvPicPr/>
          <p:nvPr/>
        </p:nvPicPr>
        <p:blipFill>
          <a:blip r:embed="rId1"/>
          <a:stretch/>
        </p:blipFill>
        <p:spPr>
          <a:xfrm>
            <a:off x="6426360" y="3645000"/>
            <a:ext cx="2479680" cy="2830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250920" y="260280"/>
            <a:ext cx="8497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пренебрежение собственным здоровьем, гигиеной и сном в пользу проведения большого количества времени за компьютер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MCj04241780000[1]"/>
          <p:cNvPicPr/>
          <p:nvPr/>
        </p:nvPicPr>
        <p:blipFill>
          <a:blip r:embed="rId1"/>
          <a:stretch/>
        </p:blipFill>
        <p:spPr>
          <a:xfrm>
            <a:off x="6516720" y="3789360"/>
            <a:ext cx="2417760" cy="27590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468360" y="260280"/>
            <a:ext cx="820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готовность питаться нерегулярно, употреблять однообразную пищу, не отрываясь от компьюте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MCj04241780000[1]"/>
          <p:cNvPicPr/>
          <p:nvPr/>
        </p:nvPicPr>
        <p:blipFill>
          <a:blip r:embed="rId1"/>
          <a:stretch/>
        </p:blipFill>
        <p:spPr>
          <a:xfrm>
            <a:off x="6622920" y="3860640"/>
            <a:ext cx="2354400" cy="26863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395280" y="333360"/>
            <a:ext cx="7921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ощущение эмоционального подъёма во время игры с компьютер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MCj04241780000[1]"/>
          <p:cNvPicPr/>
          <p:nvPr/>
        </p:nvPicPr>
        <p:blipFill>
          <a:blip r:embed="rId1"/>
          <a:stretch/>
        </p:blipFill>
        <p:spPr>
          <a:xfrm>
            <a:off x="6226200" y="3500280"/>
            <a:ext cx="2606760" cy="29750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468360" y="620640"/>
            <a:ext cx="806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обсуждение компьютерной тематики со  всеми     мало-мальски сведущими в этой области людь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MCj04241780000[1]"/>
          <p:cNvPicPr/>
          <p:nvPr/>
        </p:nvPicPr>
        <p:blipFill>
          <a:blip r:embed="rId1"/>
          <a:stretch/>
        </p:blipFill>
        <p:spPr>
          <a:xfrm>
            <a:off x="6622920" y="3933720"/>
            <a:ext cx="2354400" cy="2686320"/>
          </a:xfrm>
          <a:prstGeom prst="rect">
            <a:avLst/>
          </a:prstGeom>
          <a:ln w="0">
            <a:noFill/>
          </a:ln>
        </p:spPr>
      </p:pic>
      <p:sp>
        <p:nvSpPr>
          <p:cNvPr id="78" name="WordArt 3"/>
          <p:cNvSpPr txBox="1"/>
          <p:nvPr/>
        </p:nvSpPr>
        <p:spPr>
          <a:xfrm>
            <a:off x="1403280" y="333360"/>
            <a:ext cx="612144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что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делать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3780000" y="3429000"/>
            <a:ext cx="1295280" cy="26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MCj03973520000[1]"/>
          <p:cNvPicPr/>
          <p:nvPr/>
        </p:nvPicPr>
        <p:blipFill>
          <a:blip r:embed="rId1"/>
          <a:stretch/>
        </p:blipFill>
        <p:spPr>
          <a:xfrm>
            <a:off x="6750000" y="3860640"/>
            <a:ext cx="2176560" cy="26798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1"/>
          <p:cNvSpPr/>
          <p:nvPr/>
        </p:nvSpPr>
        <p:spPr>
          <a:xfrm>
            <a:off x="611280" y="260280"/>
            <a:ext cx="792000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ограничивать время компьютерных забав;</a:t>
            </a:r>
            <a:r>
              <a:rPr b="0" lang="ru-RU" sz="36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до 7 лет -  не более 20 ми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7-12 лет – 2-3 часа, но не ноч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1042920" y="270828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539640" y="2276640"/>
            <a:ext cx="74883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играть в компьютер перед сном запрещается всем дет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обязательно дома делать гимнасти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покупать игры, основанные на эмоционально положительных образ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покупать добрые иг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4"/>
          <p:cNvSpPr/>
          <p:nvPr/>
        </p:nvSpPr>
        <p:spPr>
          <a:xfrm>
            <a:off x="179280" y="3645000"/>
            <a:ext cx="360360" cy="3603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179280" y="2421000"/>
            <a:ext cx="360360" cy="3603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7"/>
          <p:cNvSpPr/>
          <p:nvPr/>
        </p:nvSpPr>
        <p:spPr>
          <a:xfrm>
            <a:off x="250920" y="404640"/>
            <a:ext cx="360360" cy="3603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8"/>
          <p:cNvSpPr/>
          <p:nvPr/>
        </p:nvSpPr>
        <p:spPr>
          <a:xfrm>
            <a:off x="179280" y="4365720"/>
            <a:ext cx="360360" cy="3603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9"/>
          <p:cNvSpPr/>
          <p:nvPr/>
        </p:nvSpPr>
        <p:spPr>
          <a:xfrm>
            <a:off x="179280" y="6093000"/>
            <a:ext cx="360360" cy="3603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20"/>
          <p:cNvSpPr txBox="1"/>
          <p:nvPr/>
        </p:nvSpPr>
        <p:spPr>
          <a:xfrm>
            <a:off x="7812000" y="549360"/>
            <a:ext cx="216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ё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п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ы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  <p:sp>
        <p:nvSpPr>
          <p:cNvPr id="90" name="WordArt 21"/>
          <p:cNvSpPr txBox="1"/>
          <p:nvPr/>
        </p:nvSpPr>
        <p:spPr>
          <a:xfrm>
            <a:off x="8172360" y="1197000"/>
            <a:ext cx="2872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ш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я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  <p:sp>
        <p:nvSpPr>
          <p:cNvPr id="91" name="WordArt 22"/>
          <p:cNvSpPr txBox="1"/>
          <p:nvPr/>
        </p:nvSpPr>
        <p:spPr>
          <a:xfrm>
            <a:off x="8604360" y="2276640"/>
            <a:ext cx="215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ь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7"/>
          <p:cNvSpPr/>
          <p:nvPr/>
        </p:nvSpPr>
        <p:spPr>
          <a:xfrm>
            <a:off x="684360" y="260280"/>
            <a:ext cx="806436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приобщение учащихся к физическому и умственному тр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привитие и повышение интереса к различным видам деятельности (спорт, музыка, рисование и т. д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воспитание стремления учащихся самосовершенствоваться   в     личностном  плане,                                      развиваться как              интеллектуально, так  и         нравствен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MCj04303680000[1]"/>
          <p:cNvPicPr/>
          <p:nvPr/>
        </p:nvPicPr>
        <p:blipFill>
          <a:blip r:embed="rId1"/>
          <a:stretch/>
        </p:blipFill>
        <p:spPr>
          <a:xfrm>
            <a:off x="6084720" y="3867120"/>
            <a:ext cx="2740320" cy="2700360"/>
          </a:xfrm>
          <a:prstGeom prst="rect">
            <a:avLst/>
          </a:prstGeom>
          <a:ln w="0">
            <a:noFill/>
          </a:ln>
        </p:spPr>
      </p:pic>
      <p:sp>
        <p:nvSpPr>
          <p:cNvPr id="94" name="Oval 12"/>
          <p:cNvSpPr/>
          <p:nvPr/>
        </p:nvSpPr>
        <p:spPr>
          <a:xfrm>
            <a:off x="250920" y="333360"/>
            <a:ext cx="431640" cy="431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3"/>
          <p:cNvSpPr/>
          <p:nvPr/>
        </p:nvSpPr>
        <p:spPr>
          <a:xfrm>
            <a:off x="250920" y="1628640"/>
            <a:ext cx="431640" cy="4320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4"/>
          <p:cNvSpPr/>
          <p:nvPr/>
        </p:nvSpPr>
        <p:spPr>
          <a:xfrm>
            <a:off x="250920" y="3284640"/>
            <a:ext cx="431640" cy="431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MCj03981530000[1]"/>
          <p:cNvPicPr/>
          <p:nvPr/>
        </p:nvPicPr>
        <p:blipFill>
          <a:blip r:embed="rId1"/>
          <a:stretch/>
        </p:blipFill>
        <p:spPr>
          <a:xfrm>
            <a:off x="5364000" y="3537000"/>
            <a:ext cx="3413160" cy="3025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971640" y="765000"/>
            <a:ext cx="77770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Arial"/>
              </a:rPr>
              <a:t>увлечение компьютером </a:t>
            </a:r>
            <a:r>
              <a:rPr b="0" lang="ru-RU" sz="4000" spc="-1" strike="noStrike">
                <a:solidFill>
                  <a:srgbClr val="ff5050"/>
                </a:solidFill>
                <a:latin typeface="Arial"/>
              </a:rPr>
              <a:t>не </a:t>
            </a:r>
            <a:r>
              <a:rPr b="0" lang="ru-RU" sz="3600" spc="-1" strike="noStrike">
                <a:solidFill>
                  <a:srgbClr val="ff5050"/>
                </a:solidFill>
                <a:latin typeface="Arial"/>
              </a:rPr>
              <a:t>должно</a:t>
            </a:r>
            <a:r>
              <a:rPr b="0" lang="ru-RU" sz="3600" spc="-1" strike="noStrike">
                <a:solidFill>
                  <a:srgbClr val="006699"/>
                </a:solidFill>
                <a:latin typeface="Arial"/>
              </a:rPr>
              <a:t> подменять живое общение ребёнка со сверстни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2987640" y="2924280"/>
            <a:ext cx="360360" cy="20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!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MCj04241780000[1]"/>
          <p:cNvPicPr/>
          <p:nvPr/>
        </p:nvPicPr>
        <p:blipFill>
          <a:blip r:embed="rId1"/>
          <a:stretch/>
        </p:blipFill>
        <p:spPr>
          <a:xfrm>
            <a:off x="6478560" y="3933720"/>
            <a:ext cx="2354400" cy="2686320"/>
          </a:xfrm>
          <a:prstGeom prst="rect">
            <a:avLst/>
          </a:prstGeom>
          <a:ln w="0">
            <a:noFill/>
          </a:ln>
        </p:spPr>
      </p:pic>
      <p:sp>
        <p:nvSpPr>
          <p:cNvPr id="44" name="WordArt 3"/>
          <p:cNvSpPr txBox="1"/>
          <p:nvPr/>
        </p:nvSpPr>
        <p:spPr>
          <a:xfrm>
            <a:off x="1403280" y="907920"/>
            <a:ext cx="5040360" cy="28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причины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3492360" y="3573360"/>
            <a:ext cx="1152720" cy="19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MCj04241780000[1]"/>
          <p:cNvPicPr/>
          <p:nvPr/>
        </p:nvPicPr>
        <p:blipFill>
          <a:blip r:embed="rId1"/>
          <a:stretch/>
        </p:blipFill>
        <p:spPr>
          <a:xfrm>
            <a:off x="6361200" y="3716280"/>
            <a:ext cx="2544840" cy="29037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611280" y="333360"/>
            <a:ext cx="8532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умение общаться со сверстни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фликт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обладание игровой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формированность учебной мотив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моциональные пробл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4"/>
          <p:cNvSpPr/>
          <p:nvPr/>
        </p:nvSpPr>
        <p:spPr>
          <a:xfrm>
            <a:off x="250920" y="476280"/>
            <a:ext cx="360360" cy="358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250920" y="1197000"/>
            <a:ext cx="360360" cy="358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250920" y="1989000"/>
            <a:ext cx="360360" cy="358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7"/>
          <p:cNvSpPr/>
          <p:nvPr/>
        </p:nvSpPr>
        <p:spPr>
          <a:xfrm>
            <a:off x="250920" y="3429000"/>
            <a:ext cx="360360" cy="358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8"/>
          <p:cNvSpPr/>
          <p:nvPr/>
        </p:nvSpPr>
        <p:spPr>
          <a:xfrm>
            <a:off x="250920" y="2708280"/>
            <a:ext cx="360360" cy="358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11280" y="3933720"/>
            <a:ext cx="576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ервых этапах привыкания ребёнка к компьютерной игре родители поощряют эти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0"/>
          <p:cNvSpPr/>
          <p:nvPr/>
        </p:nvSpPr>
        <p:spPr>
          <a:xfrm>
            <a:off x="250920" y="4076640"/>
            <a:ext cx="360360" cy="358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MCj04241780000[1]"/>
          <p:cNvPicPr/>
          <p:nvPr/>
        </p:nvPicPr>
        <p:blipFill>
          <a:blip r:embed="rId1"/>
          <a:stretch/>
        </p:blipFill>
        <p:spPr>
          <a:xfrm>
            <a:off x="6173640" y="3429000"/>
            <a:ext cx="2732400" cy="3117960"/>
          </a:xfrm>
          <a:prstGeom prst="rect">
            <a:avLst/>
          </a:prstGeom>
          <a:ln w="0">
            <a:noFill/>
          </a:ln>
        </p:spPr>
      </p:pic>
      <p:sp>
        <p:nvSpPr>
          <p:cNvPr id="56" name="WordArt 3"/>
          <p:cNvSpPr txBox="1"/>
          <p:nvPr/>
        </p:nvSpPr>
        <p:spPr>
          <a:xfrm>
            <a:off x="611280" y="476280"/>
            <a:ext cx="655308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основные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симптомы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3492360" y="4149720"/>
            <a:ext cx="100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468360" y="692280"/>
            <a:ext cx="78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нежелание отвлечься от работы или игры с компьютер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MCj04241780000[1]"/>
          <p:cNvPicPr/>
          <p:nvPr/>
        </p:nvPicPr>
        <p:blipFill>
          <a:blip r:embed="rId1"/>
          <a:stretch/>
        </p:blipFill>
        <p:spPr>
          <a:xfrm>
            <a:off x="5965920" y="3141720"/>
            <a:ext cx="27954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MCj04241780000[1]"/>
          <p:cNvPicPr/>
          <p:nvPr/>
        </p:nvPicPr>
        <p:blipFill>
          <a:blip r:embed="rId1"/>
          <a:stretch/>
        </p:blipFill>
        <p:spPr>
          <a:xfrm>
            <a:off x="6162840" y="3500280"/>
            <a:ext cx="2670120" cy="3046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9640" y="54936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раздражение при вынужденном отвлече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MCj04241780000[1]"/>
          <p:cNvPicPr/>
          <p:nvPr/>
        </p:nvPicPr>
        <p:blipFill>
          <a:blip r:embed="rId1"/>
          <a:stretch/>
        </p:blipFill>
        <p:spPr>
          <a:xfrm>
            <a:off x="6416640" y="3789360"/>
            <a:ext cx="2416320" cy="27576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250920" y="476280"/>
            <a:ext cx="849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неспособность спланировать окончание сеанса игры с компьютер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Cj04241780000[1]"/>
          <p:cNvPicPr/>
          <p:nvPr/>
        </p:nvPicPr>
        <p:blipFill>
          <a:blip r:embed="rId1"/>
          <a:stretch/>
        </p:blipFill>
        <p:spPr>
          <a:xfrm>
            <a:off x="6226200" y="3500280"/>
            <a:ext cx="2606760" cy="29750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395280" y="549360"/>
            <a:ext cx="7921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95280" y="476280"/>
            <a:ext cx="849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расходование денег на обеспечение постоянного обновления иг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MCj04241780000[1]"/>
          <p:cNvPicPr/>
          <p:nvPr/>
        </p:nvPicPr>
        <p:blipFill>
          <a:blip r:embed="rId1"/>
          <a:stretch/>
        </p:blipFill>
        <p:spPr>
          <a:xfrm>
            <a:off x="6415200" y="3645000"/>
            <a:ext cx="2417760" cy="27590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24000" y="333360"/>
            <a:ext cx="813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забывание о домашних делах, учёбе, встречах и договорённостях в ходе игры на компьютер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20:26:30Z</dcterms:created>
  <dc:creator>Жанна</dc:creator>
  <dc:description/>
  <dc:language>en-US</dc:language>
  <cp:lastModifiedBy>Ира</cp:lastModifiedBy>
  <dcterms:modified xsi:type="dcterms:W3CDTF">2013-03-24T17:36:53Z</dcterms:modified>
  <cp:revision>12</cp:revision>
  <dc:subject/>
  <dc:title>Слайд 1</dc:title>
</cp:coreProperties>
</file>